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603396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128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96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7152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9296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7152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2717280"/>
            <a:ext cx="11175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11175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14400" y="317160"/>
            <a:ext cx="1117584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717280"/>
            <a:ext cx="11175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128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603396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128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296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7152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9296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7152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14400" y="2717280"/>
            <a:ext cx="11175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11175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11175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914400" y="317160"/>
            <a:ext cx="1117584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128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14400" y="603396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128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296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47152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91440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9296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47152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14400" y="2717280"/>
            <a:ext cx="11175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11175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914400" y="317160"/>
            <a:ext cx="1117584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128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914400" y="603396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128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296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47152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91440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9296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47152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4400" y="2717280"/>
            <a:ext cx="11175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11175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4400" y="317160"/>
            <a:ext cx="1117584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128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4400" y="603396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128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317160"/>
            <a:ext cx="1117584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296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471520" y="271728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440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9296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471520" y="6033960"/>
            <a:ext cx="35982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1280" y="603396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1280" y="2717280"/>
            <a:ext cx="54536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6033960"/>
            <a:ext cx="11175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7010280"/>
            <a:ext cx="11175840" cy="198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800" spc="-1" strike="noStrike">
                <a:solidFill>
                  <a:srgbClr val="171716"/>
                </a:solidFill>
                <a:latin typeface="Cochin"/>
              </a:rPr>
              <a:t>Click to edit the title text format</a:t>
            </a:r>
            <a:endParaRPr b="0" lang="en-US" sz="5800" spc="-1" strike="noStrike">
              <a:solidFill>
                <a:srgbClr val="171716"/>
              </a:solidFill>
              <a:latin typeface="Cochi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  <a:p>
            <a:pPr lvl="1" marL="288000" indent="0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  <a:p>
            <a:pPr lvl="2" marL="576000">
              <a:spcBef>
                <a:spcPts val="3801"/>
              </a:spcBef>
              <a:buClr>
                <a:srgbClr val="5f5448"/>
              </a:buClr>
              <a:buFont typeface="Baskerville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  <a:p>
            <a:pPr lvl="3" marL="864000">
              <a:spcBef>
                <a:spcPts val="3801"/>
              </a:spcBef>
              <a:buClr>
                <a:srgbClr val="5f5448"/>
              </a:buClr>
              <a:buFont typeface="Baskerville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  <a:p>
            <a:pPr lvl="4" marL="1152000">
              <a:spcBef>
                <a:spcPts val="3801"/>
              </a:spcBef>
              <a:buClr>
                <a:srgbClr val="5f5448"/>
              </a:buClr>
              <a:buFont typeface="Baskerville"/>
              <a:buChar char="•"/>
              <a:tabLst>
                <a:tab algn="l" pos="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  <a:p>
            <a:pPr lvl="5" marL="1152000">
              <a:spcBef>
                <a:spcPts val="1049"/>
              </a:spcBef>
              <a:buClr>
                <a:srgbClr val="000000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  <a:p>
            <a:pPr lvl="6" marL="1152000">
              <a:spcBef>
                <a:spcPts val="1049"/>
              </a:spcBef>
              <a:buClr>
                <a:srgbClr val="000000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800" spc="-1" strike="noStrike">
                <a:solidFill>
                  <a:srgbClr val="6e6151"/>
                </a:solidFill>
                <a:latin typeface="Baskerville"/>
              </a:rPr>
              <a:t>Click to edit the title text format</a:t>
            </a: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  <a:p>
            <a:pPr lvl="1" marL="288000" indent="0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  <a:p>
            <a:pPr lvl="2" marL="576000">
              <a:spcBef>
                <a:spcPts val="3801"/>
              </a:spcBef>
              <a:buClr>
                <a:srgbClr val="5f5448"/>
              </a:buClr>
              <a:buFont typeface="Baskerville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  <a:p>
            <a:pPr lvl="3" marL="864000">
              <a:spcBef>
                <a:spcPts val="3801"/>
              </a:spcBef>
              <a:buClr>
                <a:srgbClr val="5f5448"/>
              </a:buClr>
              <a:buFont typeface="Baskerville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  <a:p>
            <a:pPr lvl="4" marL="1152000">
              <a:spcBef>
                <a:spcPts val="3801"/>
              </a:spcBef>
              <a:buClr>
                <a:srgbClr val="5f5448"/>
              </a:buClr>
              <a:buFont typeface="Baskerville"/>
              <a:buChar char="•"/>
              <a:tabLst>
                <a:tab algn="l" pos="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  <a:p>
            <a:pPr lvl="5" marL="1152000">
              <a:spcBef>
                <a:spcPts val="1049"/>
              </a:spcBef>
              <a:buClr>
                <a:srgbClr val="000000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  <a:p>
            <a:pPr lvl="6" marL="1152000">
              <a:spcBef>
                <a:spcPts val="1049"/>
              </a:spcBef>
              <a:buClr>
                <a:srgbClr val="000000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5448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914400" y="7200720"/>
            <a:ext cx="520704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Bradley Hand ITC TT-Bold"/>
              </a:rPr>
              <a:t>Click to edit the outline text format</a:t>
            </a:r>
            <a:endParaRPr b="1" lang="en-US" sz="2400" spc="-1" strike="noStrike">
              <a:solidFill>
                <a:srgbClr val="404040"/>
              </a:solidFill>
              <a:latin typeface="Bradley Hand ITC TT-Bold"/>
            </a:endParaRPr>
          </a:p>
          <a:p>
            <a:pPr lvl="1" marL="65160">
              <a:buClr>
                <a:srgbClr val="404040"/>
              </a:buClr>
              <a:buFont typeface="Bradley Hand ITC TT-Bold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Bradley Hand ITC TT-Bold"/>
              </a:rPr>
              <a:t>Second Outline Level</a:t>
            </a:r>
            <a:endParaRPr b="1" lang="en-US" sz="2400" spc="-1" strike="noStrike">
              <a:solidFill>
                <a:srgbClr val="404040"/>
              </a:solidFill>
              <a:latin typeface="Bradley Hand ITC TT-Bold"/>
            </a:endParaRPr>
          </a:p>
          <a:p>
            <a:pPr lvl="2" marL="129960">
              <a:buClr>
                <a:srgbClr val="404040"/>
              </a:buClr>
              <a:buFont typeface="Bradley Hand ITC TT-Bold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Bradley Hand ITC TT-Bold"/>
              </a:rPr>
              <a:t>Third Outline Level</a:t>
            </a:r>
            <a:endParaRPr b="1" lang="en-US" sz="2400" spc="-1" strike="noStrike">
              <a:solidFill>
                <a:srgbClr val="404040"/>
              </a:solidFill>
              <a:latin typeface="Bradley Hand ITC TT-Bold"/>
            </a:endParaRPr>
          </a:p>
          <a:p>
            <a:pPr lvl="3" marL="195480">
              <a:buClr>
                <a:srgbClr val="404040"/>
              </a:buClr>
              <a:buFont typeface="Bradley Hand ITC TT-Bold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Bradley Hand ITC TT-Bold"/>
              </a:rPr>
              <a:t>Fourth Outline Level</a:t>
            </a:r>
            <a:endParaRPr b="1" lang="en-US" sz="2400" spc="-1" strike="noStrike">
              <a:solidFill>
                <a:srgbClr val="404040"/>
              </a:solidFill>
              <a:latin typeface="Bradley Hand ITC TT-Bold"/>
            </a:endParaRPr>
          </a:p>
          <a:p>
            <a:pPr lvl="4" marL="260280">
              <a:buClr>
                <a:srgbClr val="404040"/>
              </a:buClr>
              <a:buFont typeface="Bradley Hand ITC TT-Bold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Bradley Hand ITC TT-Bold"/>
              </a:rPr>
              <a:t>Fifth Outline Level</a:t>
            </a:r>
            <a:endParaRPr b="1" lang="en-US" sz="2400" spc="-1" strike="noStrike">
              <a:solidFill>
                <a:srgbClr val="404040"/>
              </a:solidFill>
              <a:latin typeface="Bradley Hand ITC TT-Bold"/>
            </a:endParaRPr>
          </a:p>
          <a:p>
            <a:pPr lvl="5" marL="260280">
              <a:buClr>
                <a:srgbClr val="000000"/>
              </a:buClr>
              <a:buFont typeface="Bradley Hand ITC TT-Bold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Bradley Hand ITC TT-Bold"/>
              </a:rPr>
              <a:t>Sixth Outline Level</a:t>
            </a:r>
            <a:endParaRPr b="1" lang="en-US" sz="2400" spc="-1" strike="noStrike">
              <a:solidFill>
                <a:srgbClr val="404040"/>
              </a:solidFill>
              <a:latin typeface="Bradley Hand ITC TT-Bold"/>
            </a:endParaRPr>
          </a:p>
          <a:p>
            <a:pPr lvl="6" marL="260280">
              <a:buClr>
                <a:srgbClr val="000000"/>
              </a:buClr>
              <a:buFont typeface="Bradley Hand ITC TT-Bold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Bradley Hand ITC TT-Bold"/>
              </a:rPr>
              <a:t>Seventh Outline Level</a:t>
            </a:r>
            <a:endParaRPr b="1" lang="en-US" sz="2400" spc="-1" strike="noStrike">
              <a:solidFill>
                <a:srgbClr val="404040"/>
              </a:solidFill>
              <a:latin typeface="Bradley Hand ITC TT-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800" spc="-1" strike="noStrike">
                <a:solidFill>
                  <a:srgbClr val="6e6151"/>
                </a:solidFill>
                <a:latin typeface="Baskerville"/>
              </a:rPr>
              <a:t>Click to edit the title text format</a:t>
            </a: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800" spc="-1" strike="noStrike">
                <a:solidFill>
                  <a:srgbClr val="6e6151"/>
                </a:solidFill>
                <a:latin typeface="Baskerville"/>
              </a:rPr>
              <a:t>Click to edit the title text format</a:t>
            </a: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2717280"/>
            <a:ext cx="5587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266400" indent="-266400"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f5448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 lvl="1" marL="533160" indent="-266400"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f5448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 lvl="2" marL="799920" indent="-266400"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f5448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 lvl="3" marL="1066680" indent="-266400"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f5448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 lvl="4" marL="1333440" indent="-266400"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f5448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 lvl="5" marL="1333440" indent="-266400">
              <a:spcBef>
                <a:spcPts val="3801"/>
              </a:spcBef>
              <a:buClr>
                <a:srgbClr val="000000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f5448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 lvl="6" marL="1333440" indent="-266400">
              <a:spcBef>
                <a:spcPts val="3801"/>
              </a:spcBef>
              <a:buClr>
                <a:srgbClr val="000000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f5448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800" spc="-1" strike="noStrike">
                <a:solidFill>
                  <a:srgbClr val="6e6151"/>
                </a:solidFill>
                <a:latin typeface="Baskerville"/>
              </a:rPr>
              <a:t>Click to edit the title text format</a:t>
            </a: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2717280"/>
            <a:ext cx="11175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291960" indent="-291960"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f5448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 lvl="1" marL="583920" indent="-291960"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f5448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 lvl="2" marL="876240" indent="-291960"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f5448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 lvl="3" marL="1168200" indent="-291960"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f5448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 lvl="4" marL="1460520" indent="-291960">
              <a:spcBef>
                <a:spcPts val="3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f5448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 lvl="5" marL="1460520" indent="-291960">
              <a:spcBef>
                <a:spcPts val="3801"/>
              </a:spcBef>
              <a:buClr>
                <a:srgbClr val="000000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f5448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 lvl="6" marL="1460520" indent="-291960">
              <a:spcBef>
                <a:spcPts val="3801"/>
              </a:spcBef>
              <a:buClr>
                <a:srgbClr val="000000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f5448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InsertedImage" descr=""/>
          <p:cNvPicPr/>
          <p:nvPr/>
        </p:nvPicPr>
        <p:blipFill>
          <a:blip r:embed="rId2"/>
          <a:srcRect l="-213" t="3767" r="-213" b="3767"/>
          <a:stretch/>
        </p:blipFill>
        <p:spPr>
          <a:xfrm>
            <a:off x="2768760" y="1434960"/>
            <a:ext cx="7467480" cy="51562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7010280"/>
            <a:ext cx="11175840" cy="198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TW" sz="14000" spc="-1" strike="noStrike">
                <a:solidFill>
                  <a:srgbClr val="ffffff"/>
                </a:solidFill>
                <a:latin typeface="Cochin"/>
                <a:ea typeface="新細明體"/>
              </a:rPr>
              <a:t>小王子</a:t>
            </a:r>
            <a:endParaRPr b="0" lang="en-US" sz="14000" spc="-1" strike="noStrike">
              <a:solidFill>
                <a:srgbClr val="171716"/>
              </a:solidFill>
              <a:latin typeface="Cochi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747720" y="-186120"/>
            <a:ext cx="14513040" cy="19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Cochin"/>
                <a:ea typeface="新細明體"/>
              </a:rPr>
              <a:t>組員：鍾嘉禧，李圳淇，黃綺穎</a:t>
            </a:r>
            <a:endParaRPr b="0" lang="en-US" sz="48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TW" sz="5800" spc="-1" strike="noStrike">
                <a:solidFill>
                  <a:srgbClr val="6e6151"/>
                </a:solidFill>
                <a:latin typeface="Baskerville"/>
                <a:ea typeface="新細明體"/>
              </a:rPr>
              <a:t>心理描寫</a:t>
            </a: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5240" y="1701360"/>
            <a:ext cx="11175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-317520">
              <a:spcBef>
                <a:spcPts val="2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TW" sz="3600" spc="-1" strike="noStrike">
                <a:solidFill>
                  <a:srgbClr val="5f5448"/>
                </a:solidFill>
                <a:latin typeface="Baskerville"/>
                <a:ea typeface="新細明體"/>
              </a:rPr>
              <a:t>地理學家太重要了，不能到處逛。他離不開自己的辦公室。但是他在辦公室接待探工作者，訊問他們，記述他們的回憶。（自大，自以為是）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 marL="317520" indent="-317520">
              <a:spcBef>
                <a:spcPts val="2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TW" sz="3600" spc="-1" strike="noStrike">
                <a:solidFill>
                  <a:srgbClr val="5f5448"/>
                </a:solidFill>
                <a:latin typeface="Baskerville"/>
                <a:ea typeface="新細明體"/>
              </a:rPr>
              <a:t> </a:t>
            </a:r>
            <a:r>
              <a:rPr b="0" lang="zh-TW" sz="3600" spc="-1" strike="noStrike">
                <a:solidFill>
                  <a:srgbClr val="5f5448"/>
                </a:solidFill>
                <a:latin typeface="Baskerville"/>
                <a:ea typeface="新細明體"/>
              </a:rPr>
              <a:t>什麼叫</a:t>
            </a:r>
            <a:r>
              <a:rPr b="0" lang="zh-TW" sz="3600" spc="-1" strike="noStrike">
                <a:solidFill>
                  <a:srgbClr val="5f5448"/>
                </a:solidFill>
                <a:latin typeface="Baskerville"/>
                <a:ea typeface="新細明體"/>
              </a:rPr>
              <a:t>"</a:t>
            </a:r>
            <a:r>
              <a:rPr b="0" lang="zh-TW" sz="3600" spc="-1" strike="noStrike">
                <a:solidFill>
                  <a:srgbClr val="5f5448"/>
                </a:solidFill>
                <a:latin typeface="Baskerville"/>
                <a:ea typeface="新細明體"/>
              </a:rPr>
              <a:t>瞬息即逝</a:t>
            </a:r>
            <a:r>
              <a:rPr b="0" lang="zh-TW" sz="3600" spc="-1" strike="noStrike">
                <a:solidFill>
                  <a:srgbClr val="5f5448"/>
                </a:solidFill>
                <a:latin typeface="Baskerville"/>
                <a:ea typeface="新細明體"/>
              </a:rPr>
              <a:t>"</a:t>
            </a:r>
            <a:r>
              <a:rPr b="0" lang="zh-TW" sz="3600" spc="-1" strike="noStrike">
                <a:solidFill>
                  <a:srgbClr val="5f5448"/>
                </a:solidFill>
                <a:latin typeface="Baskerville"/>
                <a:ea typeface="新細明體"/>
              </a:rPr>
              <a:t>？（小王子很好奇地問）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InsertedImage" descr=""/>
          <p:cNvPicPr/>
          <p:nvPr/>
        </p:nvPicPr>
        <p:blipFill>
          <a:blip r:embed="rId2"/>
          <a:srcRect l="0" t="11927" r="0" b="11927"/>
          <a:stretch/>
        </p:blipFill>
        <p:spPr>
          <a:xfrm>
            <a:off x="1015920" y="1206360"/>
            <a:ext cx="10985760" cy="55882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914400" y="7200720"/>
            <a:ext cx="11174400" cy="20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TW" sz="2900" spc="-1" strike="noStrike">
                <a:solidFill>
                  <a:srgbClr val="404040"/>
                </a:solidFill>
                <a:latin typeface="Bradley Hand ITC TT-Bold"/>
                <a:ea typeface="新細明體"/>
              </a:rPr>
              <a:t>我們要介紹的角色是在第十五章，小行星</a:t>
            </a:r>
            <a:r>
              <a:rPr b="1" lang="zh-TW" sz="2900" spc="-1" strike="noStrike">
                <a:solidFill>
                  <a:srgbClr val="404040"/>
                </a:solidFill>
                <a:latin typeface="Courier New"/>
                <a:ea typeface="新細明體"/>
              </a:rPr>
              <a:t>330</a:t>
            </a:r>
            <a:r>
              <a:rPr b="1" lang="zh-TW" sz="2900" spc="-1" strike="noStrike">
                <a:solidFill>
                  <a:srgbClr val="404040"/>
                </a:solidFill>
                <a:latin typeface="Bradley Hand ITC TT-Bold"/>
                <a:ea typeface="新細明體"/>
              </a:rPr>
              <a:t>號，這小行星比</a:t>
            </a:r>
            <a:r>
              <a:rPr b="1" lang="zh-TW" sz="2900" spc="-1" strike="noStrike">
                <a:solidFill>
                  <a:srgbClr val="404040"/>
                </a:solidFill>
                <a:latin typeface="Bradley Hand ITC TT-Bold"/>
                <a:ea typeface="新細明體"/>
              </a:rPr>
              <a:t>329</a:t>
            </a:r>
            <a:r>
              <a:rPr b="1" lang="zh-TW" sz="2900" spc="-1" strike="noStrike">
                <a:solidFill>
                  <a:srgbClr val="404040"/>
                </a:solidFill>
                <a:latin typeface="Bradley Hand ITC TT-Bold"/>
                <a:ea typeface="新細明體"/>
              </a:rPr>
              <a:t>號小行星大上十倍，那裡只住著一個地理學家。</a:t>
            </a:r>
            <a:endParaRPr b="1" lang="en-US" sz="2900" spc="-1" strike="noStrike">
              <a:solidFill>
                <a:srgbClr val="404040"/>
              </a:solidFill>
              <a:latin typeface="Bradley Hand ITC TT-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nsertedImage" descr=""/>
          <p:cNvPicPr/>
          <p:nvPr/>
        </p:nvPicPr>
        <p:blipFill>
          <a:blip r:embed="rId2"/>
          <a:srcRect l="0" t="13872" r="0" b="13872"/>
          <a:stretch/>
        </p:blipFill>
        <p:spPr>
          <a:xfrm>
            <a:off x="1015920" y="1206360"/>
            <a:ext cx="10985760" cy="5588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14400" y="7124760"/>
            <a:ext cx="11175840" cy="20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TW" sz="2400" spc="-1" strike="noStrike">
                <a:solidFill>
                  <a:srgbClr val="404040"/>
                </a:solidFill>
                <a:latin typeface="Bradley Hand ITC TT-Bold"/>
                <a:ea typeface="新細明體"/>
              </a:rPr>
              <a:t>小王子到了第六個星球，他看見一個老人，留著長長的鬍子，看著一本大大的書。雖然很老，但還是精神奕奕。</a:t>
            </a:r>
            <a:endParaRPr b="1" lang="en-US" sz="2400" spc="-1" strike="noStrike">
              <a:solidFill>
                <a:srgbClr val="404040"/>
              </a:solidFill>
              <a:latin typeface="Bradley Hand ITC TT-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nsertedImage" descr=""/>
          <p:cNvPicPr/>
          <p:nvPr/>
        </p:nvPicPr>
        <p:blipFill>
          <a:blip r:embed="rId2"/>
          <a:srcRect l="46851" t="0" r="0" b="0"/>
          <a:stretch/>
        </p:blipFill>
        <p:spPr>
          <a:xfrm>
            <a:off x="7970760" y="3166920"/>
            <a:ext cx="3837240" cy="54118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TW" sz="5800" spc="-1" strike="noStrike">
                <a:solidFill>
                  <a:srgbClr val="6e6151"/>
                </a:solidFill>
                <a:latin typeface="Baskerville"/>
                <a:ea typeface="新細明體"/>
              </a:rPr>
              <a:t>事件</a:t>
            </a: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06640" y="1699920"/>
            <a:ext cx="5587920" cy="635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-317520">
              <a:spcBef>
                <a:spcPts val="2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TW" sz="3600" spc="-1" strike="noStrike">
                <a:solidFill>
                  <a:srgbClr val="5f5448"/>
                </a:solidFill>
                <a:latin typeface="Baskerville"/>
                <a:ea typeface="新細明體"/>
              </a:rPr>
              <a:t>小王子認為這個小行星十分美，因此就問地理學家有沒有 海洋，河流，沙漠，山林或城市。地理學家卻回答他沒法知道，因為他是地理學家。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165708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TW" sz="5800" spc="-1" strike="noStrike">
                <a:solidFill>
                  <a:srgbClr val="6e6151"/>
                </a:solidFill>
                <a:latin typeface="Baskerville"/>
                <a:ea typeface="新細明體"/>
              </a:rPr>
              <a:t>地理學家的性格特徵</a:t>
            </a: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201" name=""/>
          <p:cNvSpPr/>
          <p:nvPr/>
        </p:nvSpPr>
        <p:spPr>
          <a:xfrm rot="439800">
            <a:off x="1279440" y="6237000"/>
            <a:ext cx="10690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TW" sz="2900" spc="-1" strike="noStrike">
                <a:solidFill>
                  <a:srgbClr val="404040"/>
                </a:solidFill>
                <a:latin typeface="Bradley Hand ITC TT-Bold"/>
                <a:ea typeface="新細明體"/>
              </a:rPr>
              <a:t>因此我們知道地理學家只是個學者，他知道那裡有 海洋，河流，沙漠，山林或城市。他不記下瞬息即逝的事，所以他的地理書永遠不會過時的。所有地理都留</a:t>
            </a:r>
            <a:r>
              <a:rPr b="1" lang="zh-CN" sz="2900" spc="-1" strike="noStrike">
                <a:solidFill>
                  <a:srgbClr val="404040"/>
                </a:solidFill>
                <a:latin typeface="Bradley Hand ITC TT-Bold"/>
                <a:ea typeface="新細明體"/>
              </a:rPr>
              <a:t>待</a:t>
            </a:r>
            <a:r>
              <a:rPr b="1" lang="zh-TW" sz="2900" spc="-1" strike="noStrike">
                <a:solidFill>
                  <a:srgbClr val="404040"/>
                </a:solidFill>
                <a:latin typeface="Bradley Hand ITC TT-Bold"/>
                <a:ea typeface="新細明體"/>
              </a:rPr>
              <a:t>探險家發掘。地理學家只訪問探險家和相信探險家帶會來的證物來寫地理書。</a:t>
            </a:r>
            <a:endParaRPr b="0" lang="en-US" sz="29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2960" y="3011040"/>
            <a:ext cx="111772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TW" sz="6000" spc="-1" strike="noStrike">
                <a:solidFill>
                  <a:srgbClr val="6e6151"/>
                </a:solidFill>
                <a:latin typeface="Malayalam Sangam MN"/>
                <a:ea typeface="新細明體"/>
              </a:rPr>
              <a:t>但是為什麼地理學家不知道他自己的星球到底有沒有 海洋，河流，沙漠，山林或城市。</a:t>
            </a:r>
            <a:endParaRPr b="0" lang="en-US" sz="6000" spc="-1" strike="noStrike">
              <a:solidFill>
                <a:srgbClr val="6e6151"/>
              </a:solidFill>
              <a:latin typeface="Baskervill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6280" y="33159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TW" sz="5800" spc="-1" strike="noStrike">
                <a:solidFill>
                  <a:srgbClr val="6e6151"/>
                </a:solidFill>
                <a:latin typeface="Baskerville"/>
                <a:ea typeface="新細明體"/>
              </a:rPr>
              <a:t>因此我們覺得從來沒有探險家在地理學家的星球裏探索過</a:t>
            </a: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 rot="340800">
            <a:off x="4376520" y="7198200"/>
            <a:ext cx="685008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TW" sz="2900" spc="-1" strike="noStrike">
                <a:solidFill>
                  <a:srgbClr val="404040"/>
                </a:solidFill>
                <a:latin typeface="Bradley Hand ITC TT-Bold"/>
                <a:ea typeface="新細明體"/>
              </a:rPr>
              <a:t>小王子告訴他在他的那個星球（</a:t>
            </a:r>
            <a:r>
              <a:rPr b="1" lang="zh-TW" sz="2900" spc="-1" strike="noStrike">
                <a:solidFill>
                  <a:srgbClr val="404040"/>
                </a:solidFill>
                <a:latin typeface="Bradley Hand ITC TT-Bold"/>
                <a:ea typeface="新細明體"/>
              </a:rPr>
              <a:t>B-612</a:t>
            </a:r>
            <a:r>
              <a:rPr b="1" lang="zh-TW" sz="2900" spc="-1" strike="noStrike">
                <a:solidFill>
                  <a:srgbClr val="404040"/>
                </a:solidFill>
                <a:latin typeface="Bradley Hand ITC TT-Bold"/>
                <a:ea typeface="新細明體"/>
              </a:rPr>
              <a:t>）有三座大山，兩座活火山，一座死火山和一朵花。地理學家回答花是不會記錄的，因為它是瞬息即逝的，可能下一秒就沒了。</a:t>
            </a:r>
            <a:endParaRPr b="0" lang="en-US" sz="2900" spc="-1" strike="noStrike">
              <a:solidFill>
                <a:srgbClr val="5f5448"/>
              </a:solidFill>
              <a:latin typeface="Baskerville"/>
            </a:endParaRPr>
          </a:p>
        </p:txBody>
      </p:sp>
      <p:sp>
        <p:nvSpPr>
          <p:cNvPr id="205" name=""/>
          <p:cNvSpPr/>
          <p:nvPr/>
        </p:nvSpPr>
        <p:spPr>
          <a:xfrm rot="340800">
            <a:off x="1952280" y="342576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TW" sz="3200" spc="-1" strike="noStrike">
                <a:solidFill>
                  <a:srgbClr val="404040"/>
                </a:solidFill>
                <a:latin typeface="Academy Engraved LET"/>
                <a:ea typeface="新細明體"/>
              </a:rPr>
              <a:t>小王子心中他自己住的那個星球（</a:t>
            </a:r>
            <a:r>
              <a:rPr b="1" lang="zh-TW" sz="3200" spc="-1" strike="noStrike">
                <a:solidFill>
                  <a:srgbClr val="404040"/>
                </a:solidFill>
                <a:latin typeface="Academy Engraved LET"/>
                <a:ea typeface="新細明體"/>
              </a:rPr>
              <a:t>B-612</a:t>
            </a:r>
            <a:r>
              <a:rPr b="1" lang="zh-TW" sz="3200" spc="-1" strike="noStrike">
                <a:solidFill>
                  <a:srgbClr val="404040"/>
                </a:solidFill>
                <a:latin typeface="Academy Engraved LET"/>
                <a:ea typeface="新細明體"/>
              </a:rPr>
              <a:t>）</a:t>
            </a:r>
            <a:endParaRPr b="0" lang="en-US" sz="32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111758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TW" sz="5800" spc="-1" strike="noStrike">
                <a:solidFill>
                  <a:srgbClr val="6e6151"/>
                </a:solidFill>
                <a:latin typeface="Baskerville"/>
                <a:ea typeface="新細明體"/>
              </a:rPr>
              <a:t>語言描寫</a:t>
            </a:r>
            <a:endParaRPr b="0" lang="en-US" sz="5800" spc="-1" strike="noStrike">
              <a:solidFill>
                <a:srgbClr val="6e6151"/>
              </a:solidFill>
              <a:latin typeface="Baskervil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073240" y="2735280"/>
            <a:ext cx="9075600" cy="489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-317520">
              <a:spcBef>
                <a:spcPts val="2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TW" sz="3600" spc="-1" strike="noStrike">
                <a:solidFill>
                  <a:srgbClr val="5f5448"/>
                </a:solidFill>
                <a:latin typeface="Baskerville"/>
                <a:ea typeface="新細明體"/>
              </a:rPr>
              <a:t>「啊！」小王子掃了興，「山呢？」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 marL="317520"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  <a:p>
            <a:pPr marL="317520" indent="-317520">
              <a:spcBef>
                <a:spcPts val="2801"/>
              </a:spcBef>
              <a:buClr>
                <a:srgbClr val="5f5448"/>
              </a:buClr>
              <a:buSzPct val="80000"/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TW" sz="3600" spc="-1" strike="noStrike">
                <a:solidFill>
                  <a:srgbClr val="5f5448"/>
                </a:solidFill>
                <a:latin typeface="Baskerville"/>
                <a:ea typeface="新細明體"/>
              </a:rPr>
              <a:t>   </a:t>
            </a:r>
            <a:r>
              <a:rPr b="0" lang="zh-TW" sz="3600" spc="-1" strike="noStrike">
                <a:solidFill>
                  <a:srgbClr val="5f5448"/>
                </a:solidFill>
                <a:latin typeface="Baskerville"/>
                <a:ea typeface="新細明體"/>
              </a:rPr>
              <a:t>地理學家突然興奮起來：「你從遠方來的！你是勘探工作者！給我談談你那顆星球！」</a:t>
            </a:r>
            <a:endParaRPr b="0" lang="en-US" sz="3600" spc="-1" strike="noStrike">
              <a:solidFill>
                <a:srgbClr val="5f5448"/>
              </a:solidFill>
              <a:latin typeface="Baskervill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ollam</cp:lastModifiedBy>
  <dcterms:modified xsi:type="dcterms:W3CDTF">2011-05-26T01:01:48Z</dcterms:modified>
  <cp:revision>2</cp:revision>
  <dc:subject/>
  <dc:title>Slide 1</dc:title>
</cp:coreProperties>
</file>